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F4A3-AE8C-4B22-B662-63AD2B29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FE6-6BF4-4EE1-B8FA-6AE2C27B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0E13-CD6B-48C7-A0DD-D1232801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C18-081D-4009-AF6F-F53F5E2C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09AE-89AA-4673-8525-FDBAAA41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87E8-C355-411B-915D-9B9D29BF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1576-8366-4013-A0E8-6666BC20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8B80-9A91-4684-A34B-F2BF6D3B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766B-E913-483D-9BB2-BEFFB652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9C08-E4FA-4812-AE8B-80336395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0D04-1C6B-490D-B037-0FC065EC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FAC-556E-4B88-8182-B5AE5D3D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0257-BD87-4AB9-BB9B-B29C1DBB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C5C6-5F81-4A47-B402-BB3BB764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E7FE-2F70-4FEE-A2E7-7087FF67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74D4-DC74-4E04-85B9-9E1D3874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44A0-4193-4902-8EA9-5CD56614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D27A-5C39-4243-804C-5C391265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E75-AE26-4F13-A674-2657F5BD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4AC-040A-4DCF-99D1-2CAB2698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5C7-85B2-46FA-B079-71611989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4B8-D1F4-4E87-BC7E-9069AAE5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FB02-47AA-4302-A7F6-00585960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9534-E0A2-4F74-A39A-BD177598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8ABD-3B3A-46D5-8C0E-AC75EB816F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98F7-15B3-4AFF-934A-F4506134F3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620120" cy="16970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 GIORNALIN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la Cla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58920" y="2637000"/>
            <a:ext cx="6618240" cy="4032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 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n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a dei let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51480" y="2400480"/>
            <a:ext cx="2879640" cy="4572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M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RIMA PAGIN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RONAC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8c0039"/>
                </a:solidFill>
                <a:latin typeface="Arial"/>
              </a:rPr>
              <a:t>INTERVISTA a…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OSTA DEI LETTOR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2:20:49Z</dcterms:created>
  <dc:creator>.</dc:creator>
  <dc:description/>
  <dc:language>en-US</dc:language>
  <cp:lastModifiedBy>.</cp:lastModifiedBy>
  <dcterms:modified xsi:type="dcterms:W3CDTF">2007-10-07T15:50:12Z</dcterms:modified>
  <cp:revision>11</cp:revision>
  <dc:subject/>
  <dc:title>IL GIORNALINO della Classe</dc:title>
</cp:coreProperties>
</file>